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C4402-4C71-4120-8663-7DA452574B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1DA95-804C-4265-99F7-C0CA44C2C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AED11-3909-444A-84A0-352B3A864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528D2-601E-4680-828D-7C7E547A7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99A-599B-4390-861D-E4321649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EED-FDC2-45C1-82AD-AEF0BF1C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C8C11-5833-4AD7-9161-627337E2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D003E-827D-4EA6-8014-4F64D88B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337E1-E544-4DB3-8BD1-1C61B774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DE76F-9BBA-4D9C-B7C8-48CBFC57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14084-8418-4582-97D5-103E9A8C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A14C6-AEB5-4313-AE50-9F465C72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B7940-B1CB-43EC-BD24-F7D6C33B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81143-970B-404E-9999-F3858CAA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D10FF-8568-4825-A12C-CE67A29E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59205-D074-43B2-B6D1-4D6BCBFD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8F9-90C6-4D8C-B1CD-B5CF018F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83216-1C44-4E20-A40F-50C4C29B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50662-9848-4409-A59B-F1A6808A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CB0C7-B3DD-402A-BD87-FE13FC24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BCF99-5506-4FD7-8314-62276012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AEC5F-21C2-4AAB-8ADE-D8DD3FBA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51872-584E-41B7-9936-B21B985F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C77A2-EBD5-4077-9394-48AE7DC2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6640F-B830-4A8C-8D5E-3FC4B9D0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A06F4-D164-444C-9427-12E46043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A5403-C51C-42D5-A538-ED5AC5D8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12E-26FD-4675-A8B9-99944344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0B69E-C035-4C92-A34A-CC5D00FA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2977C-2F9F-4844-83D1-8F232149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837F3-CC05-4F63-ABAC-5E700261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3E977-9A54-45B2-876C-3B99901C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7DEA0-60D7-457E-A91B-237B09E6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DA98D-9331-42B7-9616-C7221707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7B339-C6D4-4CD4-AB7B-9E87B739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7A14D-0C45-4CAA-924F-4CC51FDC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A2E1E-18D8-4699-AE9A-0F0B2BA7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EFA99-42AF-45FB-80E0-F4AB5ABC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5503-5351-4DF0-9944-EFF6A026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854DF-461E-4DB1-9AA3-6282A378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B9118-E72A-4418-8757-290986C9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38528-82A3-4ACD-ACB6-5E64D392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CC256-958C-4392-B038-1C33257B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AAD24-5180-40ED-BCFE-3380C365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8A387-5F81-4AA2-A5C7-A65D19F0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B19A6-11CD-4673-BC9C-94B94DB9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DA6B8-C806-4CE2-AFE6-72C3CCB3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28E82-E8A0-4AC1-8131-00F61232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2A03C-7B16-4CE5-BE79-BF977361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DECF-FF9A-435E-9E4E-356BDB36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A9EF5-256C-4F25-AE6E-5B566F79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C26BB-7E4B-4E23-96DD-342DFA1C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FAE62-97C6-4CAE-91A6-1FE9DEAE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DBC9A-4A32-49B9-A84A-39EEB452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1F2B4-3841-41EC-8F0D-F0BA667B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8A58E-79B0-455C-90E2-D70CDBB1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69CF7-F928-4060-8E86-BE0B7155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78B49-4F97-477F-91A9-913A24F8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80422-8C8B-49FA-BD9C-A00BD8D1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E3893-28BD-4CE6-BA6D-AB1759DD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AAB7-5FFB-45BF-BEC0-31E471F7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D3AC9-1CA6-4BBA-91CC-DCCCDA76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DC322-BF33-47EF-907F-0EEF4D09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0023B-A31A-4DBE-A0CB-4B1EFEF2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BDC60-D0B8-4FBD-894B-F7F54B60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445E1-3D9C-45A2-A099-042E4FF4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78685-A397-47C3-B8BD-9B117CBE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C32E0-A9B8-4B7F-ABD9-4BE06753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07C1B9-8759-4136-B1B2-6F9DBE83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5674D-A5CF-48DD-B8F7-CF65AD88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30D6A-A8A0-4A81-BC13-5CD6D182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8439-E123-423C-9352-CE5EEDF3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697BC-145F-47D2-83C1-A5788A97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22EC95-4339-40A0-B4E8-126F1944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EEA9C-AD52-4347-86DE-F4B51B3A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FD809-0A55-4E46-BC51-F0D4E3A7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DDC33-9D56-4BDB-B92F-DDAF39F2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7AFBFF-93DC-40F6-A8A3-0CDB6C2C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0B01AE-4C50-447C-BD37-310615A4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C7A3D-5E6C-4128-8B0F-6CABA6F8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1F698-2306-485B-AC13-3DC3ACBC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A53A2A-A219-460A-9138-62E4438E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AD6D-EB4A-4EEF-8BB2-1195C136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B72D17-C3ED-490E-B7F7-E685F430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AC968-B1E5-4B42-8422-9B387D6A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5CF55A-F1A1-4E37-91B4-88DAE740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A3CE92-B043-44BC-A3AC-73B49839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7E6E2D-DE44-427E-AE0E-CBDDDFB2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74BF2-90E8-4710-83EC-DB5590DD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B0F206-C22D-44B0-B2CC-9ACA6662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F0A3A6-940E-41A1-A2C3-911C1CB0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9F00DD-6C8B-400A-BE9B-AECC6D05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FA79A0-5C92-46D3-AB41-533DB459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BA4D-18AC-496A-B8DA-7F1A4B6A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18DBB7-F458-4538-A730-9540E74E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D7DD02-2641-405C-8D6B-77873A03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E5BD3F-3A43-481A-A1E8-09844E95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E0822F-AE4D-4CAF-8D2F-8DDB296B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3CBB92-4CC9-451F-9717-471082DD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151E27-4DAF-4B28-BC4C-18D866FD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064213-4217-42E9-B664-0A2247F8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8FC7C6-411E-4447-83CC-EE2EE87A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5D88F9-6BC8-4488-A8AA-891AD0D8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2443A2-44CC-44E4-A8DB-2A13209A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C750-0931-4576-B77C-13660C97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D3F763-8AC6-43F0-A57F-5A6A88E0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637F6C-D1E4-41FB-8B45-B9889300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1DAB85-0278-4680-BA8D-0BF1C16C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6BABCC-96E3-48D3-89E9-ECCB49A1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1C324D-FD17-40AA-8B2A-ECAB499C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6FB686-9695-4080-80A9-B1606698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1AF519-47F4-4CA9-B02A-880FB9DF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5054DB-24ED-4363-8B0F-8011DFE7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8D1336-ED7A-43A4-B947-735580C4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21F211-4C69-413D-BB63-53696324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A76-FB04-4D44-BA08-3E32E840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419F-4443-40AC-A92D-4B3EBA61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474E4-8A4A-4443-94CE-E320B9E4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A80876-E676-4C50-98A6-53BDC653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30B0BB-DA05-475E-AA40-D7313594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606448-DEDD-42FA-A9EC-81A9E2DF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8CAC81-FCCC-476C-ACDB-7BDEEEA3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2A8E-B9E9-4878-BCA8-E4DCF3B6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3E09-1B4B-4B50-942D-BEB1050C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461E-D741-4CE5-97F6-C214A8E7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08BF-40EA-4BD4-95EE-23C737FC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EF85B-F61C-4459-B87B-A2D707F6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B3DD4-A7B6-4972-97D3-9C62D7E3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F0C8D-A73F-43AC-AEAE-AB5CF382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F91DD-21F5-43C1-800C-EB5701F2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59976-7F91-4901-84FB-DD5BB8FE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C859-544D-4243-BB5D-B7B2DC3A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98AA8-730D-45F9-8416-65916D63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FC9EC-37A7-40D6-A7BB-338AA54B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A77C3-A45E-4716-A0FE-7CF8DE33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5EB3E-497A-403C-80FB-41576B2A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1C8DD-FE6A-4EA0-9AF9-41ECEE8C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1A0E6-E384-4C48-B77B-2A3B9EB2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AEB06-80F9-49C6-B2EA-15438B59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17609-D0A4-492D-B2D3-0D49502C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3DC55-60CC-4C3C-9951-246D86B6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C88A3-1F95-4565-A6DA-93B20BB2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10E-9E14-4736-B09B-63A8EAD4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16AD9-E234-4B33-8731-2E0238E9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0A6C6-C27D-4F73-B8C1-E86E721F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A9B0A-2DC5-4FC7-AEB9-39AD52B0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6CFCA-3E25-46EC-A5D6-64DF0014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4198A-B742-45F3-9EA2-33B49226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FA7DB-FE6B-455D-ACA3-35051C0E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AE0FD-4B75-4D16-A603-9B63726C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0060A-52C4-4B70-8890-A417B296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F78D5-A4BA-4BF1-A450-F65D1CE6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E5329-5EF6-4854-BCF3-9CF39996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ECF-F4C7-40BF-B689-08359E94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FAB29-5F0A-4326-85DB-9E8AD1BF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E97D1-9ABC-4724-933B-E9F430A0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61A19-36D7-4061-9CB1-28460829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C5D01-375D-4058-AF28-CD72F4B1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E00D3-88EC-4012-8E6D-2F221614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4FD05-4CDA-45F0-AB4F-2997D0DE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31990-07E3-43BB-BF80-C4E9A6D4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0737A-90BE-4EF0-A3E6-0A1D655D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C104C-E53F-4E9C-AB29-97DF0FE2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232F7-B136-4B4C-B96F-D349BF2C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002-F527-437F-9087-56717312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35B2F-DC44-4E58-8EAD-EBB87652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FC057-61BF-4BEC-B14B-19492DC4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DCB5A-C62E-42F5-AD32-869E5248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FE74A-3D04-41C6-8395-4F69AC89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12542-1372-417B-9DEF-FAF55808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3DD53-C08F-443F-A9A7-875AE780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54CB1-E818-4B71-AAEC-4E830B84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CC031-0BAE-4DE8-BB98-429F10C4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86407-A4D6-4A66-B1E2-5EF4CC28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097BC-4C47-431A-B92E-21EBFC10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3627-437C-4B6C-BC12-5684C1BA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F763F-438C-4D48-A4DC-76600DE7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9F38C-9FDA-49A9-8ADA-3E95C45C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5EEF4-A657-4F5A-BFBE-1A97A209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1B245-B4CF-4ED2-89E4-3C636D58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6D56F-88D5-4430-8F85-46C0EC62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AA6B7-9F0F-47C0-BBFD-19671FE9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5F2FF-9DE1-4AD9-993E-2E58389E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AA340-5932-4608-89B2-7D2098CF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944A0-C5FF-488D-B277-E63EF876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50A42-DFD9-416A-91F0-5B6A5667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F0F-8865-4ECE-9E46-CF5824AD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211BE-3237-48DB-8E88-F980B4FA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DCA26-83B8-4EF2-9DCF-EB8AC43F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A42AC-7C90-4CF0-9954-BD7FC455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AEBD8-5AE3-4A1F-978F-B2362286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BFE2F-3C56-41A5-BF47-3BE5FB93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6AD2D-70B0-4E18-A523-E622C6F2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3FC77-1876-4085-9AFD-32F4A714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C8679-F599-4B1F-84FD-436ABA0C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E9D41-CFC7-404A-BF83-BCADE8BF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7580D-A658-4AFB-94A4-37023F0A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B7E-8B5E-4FC7-A2F1-DA915654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CD065-5FD1-4372-8B2F-EE7ACF6D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99ADE-55AC-4336-B727-C0FD165B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9CE1E-5ED2-407B-A110-113C5D38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E8B35-8CA6-407B-AEB9-CCC0B2FF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F5469-3C8E-4B40-BA99-B1FEE00C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8FBAD-B426-492E-85F7-20BDC4FB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59E3C-A8D3-4A4B-B7B6-5808EAC3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D9060-372D-471E-9605-2590EA64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7F6DE-B475-44DA-8222-2BF68485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9F6E9-FCE9-4D79-A6DF-51317E24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2204D-66B1-4468-A6FF-D450D9326C1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CB795-574E-4DCC-B028-1C9044F75BE7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28D26-7D8F-4B80-8887-3B392F4E1D7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26B2C-886F-43C0-A341-1495FC7F4C27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B7B3D-6834-4EB8-9A1D-A953D49BE60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FBEAC-E1C6-43D7-971B-850D5258CE4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CBE56-27B0-498E-81A3-FC28994DE6C5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F7949-9B86-4753-AC79-5420F15D07B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3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5800" y="4280040"/>
              <a:ext cx="1600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000" y="428004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54B08-3282-4EB2-8688-803E176065F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1520A-3229-4529-BCF3-B15F889DD76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320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5800" y="461880"/>
              <a:ext cx="160020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000" y="461880"/>
              <a:ext cx="423396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73463-2C66-4261-BCA9-3B3010623405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527BD-7A0E-4806-BBD0-4B21C0474557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FD0F4-B4B3-48D0-9CB5-54A2A98FEA2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7F527-EF24-48C6-946B-0845D1210AD3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29E3D-2D99-4E80-915A-F034A14AC94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CC2A3-7F0D-4B58-8A95-F6E60A305A1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2200" y="941040"/>
              <a:ext cx="11062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920" y="2444760"/>
              <a:ext cx="1897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1040" y="4857840"/>
              <a:ext cx="2928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5443C-568E-4E52-A3C9-62536BF502B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91863-8353-4E43-BC13-00F8B4919B75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D9F8F-D6FE-4A4F-8FC9-5C4645559C7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035CB-A300-4797-A97D-DAC71025990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04B06-2E40-4D49-A8DA-99F679A0486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A4FC0-3C3B-4BBD-8D00-670E2E053FDD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42838-A459-4339-8F80-E7A691726501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2F301-2662-4FFE-B27E-C18C7866AC2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02855-3A4F-4DDD-A903-AADA2CBBA57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7759C-6A2F-4DF3-BAAD-531C595B283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A127C-C055-4746-9C1E-F192BEE350DF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D2067-0777-4417-B844-16E240A6D5F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5EFA2-8C42-47F7-8C2A-FC771AB5ED3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B6B4E-BB1E-476A-864B-72E56E04D2F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C64FF-D435-4BD8-AB4D-8F6BD5ED8E6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926E8-C898-4B30-9DA1-CD15A9C8953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413D6-996B-4BEB-9BE8-8DA61186710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EACFF-4414-4B19-95E6-6197B1A0F0A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20480" y="448920"/>
            <a:ext cx="780876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CT 300: Critical Analysis of Med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75920" y="1401480"/>
            <a:ext cx="775332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ass 7: Money Makes the World Go Round:  Economics of Media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Advertiser bias and Product Placemen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6600" indent="-426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Women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 magazines = womens products (e.g., beauty products and food, but not cars or technology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26600" indent="-426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Evidence that women hold real power and influence on purchases, and not just on 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women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 products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26600" indent="-426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Double standard in women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 vs. 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real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”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 publications - product placement linked to copy (e.g., recipes linked directly to food ads) deliberately part of contract - without such manipulation, no ad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266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266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Mass and New Integration Issu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Emerging media = public forums and dialogue, community driven and built cont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Great idea, but where’s the money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Transition example: Newspaper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ajor medium of the modern era with early roots in community and political activis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ctivist elements squeezed out to appeal to mainstream audi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Newspapers as a threatened or dying breed – why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ping with change, or not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What replaces this void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The death of objectivity?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Journalistic objectivity as response to corporate or government censorship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Economic incentive – “just the facts” reporting offends less people, broadening market bas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ncreases perceived truth – e.g. 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golden age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”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 of reporting (e.g., Cronkite) and investigative reporting (e.g., Watergate work…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Problems with Objectivity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0920" indent="-430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Neutral vs. investigative; fair vs. pointed - a hard bala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0920" indent="-430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n excuse for lazy reporting - one side, other side, no fact-checking or attempt at synthesi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0920" indent="-430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f one side is considerably more powerful - they can obfuscate facts (or simply just lie) just by repeating one side loudly (e.g., “death panels”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0920" indent="-430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Big problems have multiple opinions - reduction to false dichotomy does not help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Return of opinion in new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24/7 cable news: screaming talking head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Viewer input through Twitter, Youtube submissions – interesting, but representative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ingly branded – in USA, FOX as right wing space, MSNBC as left – silos of opinion emerg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pported by silos in online content – right/left wing blogs that rarely if every talk to each oth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ronically, Daily Show, Colbert Report, 22 Minutes, etc. become analytical shows in this milieu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From Network to OWS 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5423040" y="2039400"/>
            <a:ext cx="34351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ivate media and public discourse – a complicated relationship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19" name="Picture 3" descr="TMW2011-10-12colorlowres.png"/>
          <p:cNvPicPr/>
          <p:nvPr/>
        </p:nvPicPr>
        <p:blipFill>
          <a:blip r:embed="rId1"/>
          <a:stretch/>
        </p:blipFill>
        <p:spPr>
          <a:xfrm>
            <a:off x="284040" y="1825560"/>
            <a:ext cx="513900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Network (1976)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prescient (and thus depressing) movie about media ownership and its effects on conten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lations to 2011– “mad as hell” led to cooptation of dissent and message (similar in kind to Tea Party and #OWS today?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Weekly assignmen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lbert Report’s “truthiness”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does it mean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might be an example of truthines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For next week…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Upcoming weeks…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Economic factors and application to comics as indust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Effects of new media in this transi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What is “new” media anyway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dministr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 analysis pap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 creation due next week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Group proposals as well – get into groups if not already, brainstorm potential viral cont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Questions on either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Money makes the world go round…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Those who control the means of media production have considerable say in what is sai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ccess, diversity and fair use a long standing concern for regulators and social activists as a resul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edia ownership can exert considerable influence on cont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Economic Models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and their Effects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02840" y="2151000"/>
            <a:ext cx="39322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Private Individual/Family Hel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Private, traded on exchang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Public/Government ownership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dvertiser support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ubscriber-support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777920" y="2151000"/>
            <a:ext cx="39322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Voluntary membership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Pay-per use vs. licens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Open source ownership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icropaym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ixed model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Horizontal Integr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Ownership of most/all players in media field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Cost savings, cost control and manipulation of barriers to entry can be managed in monopoly/oligopoly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Mass mediascape - rationalization of industry to few major players - a trend that continues.  Example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Vertical Integr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Ownership of all nodes within supply and distribution chai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ntrol and profit potential at every stop - 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um is greater than the parts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”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lso good for branding and cross-promotion - example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llianc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Often not a question of outright purchase but adhoc alliances (examples?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Enabled by common interests, interlocking boards of directors, social clas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Limits to Integr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8240" indent="-40824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Synergy helps - some mergers don</a:t>
            </a:r>
            <a:r>
              <a:rPr b="0" lang="ja-JP" sz="2800" spc="-1" strike="noStrike">
                <a:solidFill>
                  <a:srgbClr val="262626"/>
                </a:solidFill>
                <a:latin typeface="Constantia"/>
              </a:rPr>
              <a:t>’</a:t>
            </a: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t make much conceptual sense (examples?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Not absolute control - still independent operators on the fringe, especially in high-risk, low-profit endeavours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Size and power not absolute - changes in interest or technology can compromise even the big brands (examples?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082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Ownership Example: Ms. Magazin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s. Magazin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nitially ad-supported, moved to subscriber-funded model in 1989- why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4:03:30Z</dcterms:created>
  <dc:creator>Sheridan College</dc:creator>
  <dc:description/>
  <dc:language>en-US</dc:language>
  <cp:lastModifiedBy>Sheridan College</cp:lastModifiedBy>
  <dcterms:modified xsi:type="dcterms:W3CDTF">2011-10-27T19:04:31Z</dcterms:modified>
  <cp:revision>65</cp:revision>
  <dc:subject/>
  <dc:title>CCT 300: Critical Analysis  of Media</dc:title>
</cp:coreProperties>
</file>